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3AB-AED9-4462-A1EA-A618AD8F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5C9-12FF-45F9-9FF7-CFDC0628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D6A-EB2E-4F2D-BF21-94E9AFB5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3BF-7999-4BBB-B5C6-46149270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71F6-A418-4484-9611-68D0D2E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DB0-E4E4-4D89-8099-DD4B1037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66B-4729-4B62-961D-CC2FEE13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018C-3A69-490A-B906-7918C168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D76-89AC-453F-B25B-0BFC3783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9BD-AE70-4F34-9E7D-35BFE55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3DB-87EB-44E0-9D53-C42022E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C08-07AE-436F-A012-8DA76F4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604-5370-4538-8D40-D0BBF8673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IAŢA SPIRITUAL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04920" y="380880"/>
            <a:ext cx="838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Manualul de Istori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lasa a V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Zoe Petre, Laura Căpiţă, Monica Dvorski, Carol Căpiţă, Ioan Grosu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1828800"/>
            <a:ext cx="1324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siunea iunie-iul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iaţa spirituală a oamenilor din preistorie este la fel de bogată ca şi a noastră. Dar, în vreme ce noi ştim mai multe despre lumea ce ne înconjoară, primitivii nu au la dispoziţie instrumentele de astăz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siguranţa în obţinerea hranei şi faptul că nu găsesc răspunsurile la întrebări cum ar fi cauza anotimpurilor sau originea animalelor, i-au făcut să acorde puteri deosebite unor plante şi animale sau unor fiinţe supra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mitivii cred că dacă nu acordă respectul cuvenit acestor fiinţe (prin dansuri şi ceremonii), ele se pot răzbuna refuzând să-i ajute la vânătoare şi cu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loc aparte îl ocupă cultul morţilor. Obiceiul îngropării celor morţi cu daruri (ofrande) alături apare la sfârşitul paleoliticului, dar el se răspândeşte cu deosebire în timpul epocilor următo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neolitic, atunci când agricultura şi creşterea animalelor au devenit ocupaţiile de bază, în religia primitivă apar divinităţi care pot asigura recolte bogate şi turme numero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omp_i"/>
          <p:cNvPicPr/>
          <p:nvPr/>
        </p:nvPicPr>
        <p:blipFill>
          <a:blip r:embed="rId1"/>
          <a:stretch/>
        </p:blipFill>
        <p:spPr>
          <a:xfrm>
            <a:off x="5105520" y="182880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 izvoare istorice sunt utilizate pentru cercetarea preistoriei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arheolog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sc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zvoare numisma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daţi pe scurt înţelesul termenil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eisto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homin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gra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În ce epoci ale preistoriei au fost realizate 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mesticirea animale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talu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lărit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15b2</cp:lastModifiedBy>
  <dcterms:modified xsi:type="dcterms:W3CDTF">2012-06-18T11:0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